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8DC9-E6E7-4BF9-A1A8-9FD85A2DDC82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br>
              <a:rPr sz="4000"/>
            </a:br>
            <a:br>
              <a:rPr sz="40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ww.prow.lodzkie.pl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row@lodzkie.pl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tel. 42 663 36 30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fax 42 663 36 32</a:t>
            </a:r>
            <a:br>
              <a:rPr sz="28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90-051 Łódź, al. Piłsudskiego 12, II piętr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3-10-21T07:28:16Z</cp:lastPrinted>
  <dcterms:modified xsi:type="dcterms:W3CDTF">2016-11-10T11:39:31Z</dcterms:modified>
  <cp:revision>674</cp:revision>
  <dc:subject/>
  <dc:title>Slajd 1</dc:title>
</cp:coreProperties>
</file>